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4.gif" ContentType="image/gif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applause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78C5-2797-4B8F-93A1-F0058CC79A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428B-7DD5-409A-8478-35A754BE93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D24C-8DF5-4C62-B9F7-901DB4D2C0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928B-E7F8-4E91-A95C-726E96685F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56FB-226F-4BBF-8267-033CF7A24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75F1-014F-4736-894B-2120064F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4296-398D-4CFE-BDD9-8946A743A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0329-2ADB-4D01-9A0F-8CCE16FA7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EE82-0E64-405C-8595-94D0407A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5EC4-2C2E-4EE3-948C-6E7EDB18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5792-F073-4A50-BBC9-CE40C7C4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3BC3-C5C7-4324-B0EC-946AA63C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C7BE-2063-46D3-9223-F24CF31C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CAB2-B327-4B58-A896-5F485DC1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AD93-0448-4647-99A0-319987C1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DB15-DAA0-4AA3-B1D8-B9833DB4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EE68-F5E9-4196-BCB4-0F141FC273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4.gi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farm3.static.flickr.com/2386/2145079381_bf78526077.jpg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DokChampa"/>
              </a:rPr>
              <a:t>Russian Ec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6151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y: </a:t>
            </a:r>
            <a:r>
              <a:rPr b="0" lang="en-US" sz="3200" spc="-1" strike="noStrike">
                <a:solidFill>
                  <a:srgbClr val="ffffff"/>
                </a:solidFill>
                <a:latin typeface="Curlz MT"/>
              </a:rPr>
              <a:t>Amanda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cla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nd </a:t>
            </a:r>
            <a:r>
              <a:rPr b="0" lang="en-US" sz="3200" spc="-1" strike="noStrike">
                <a:solidFill>
                  <a:srgbClr val="ffffff"/>
                </a:solidFill>
                <a:latin typeface="Juice ITC"/>
              </a:rPr>
              <a:t>Raym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249000_big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MV Boli"/>
                <a:ea typeface="MV Boli"/>
              </a:rPr>
              <a:t>Problems In Ec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strangelo Edessa"/>
                <a:ea typeface="Estrangelo Edessa"/>
              </a:rPr>
              <a:t>Soviet Union fell in 1991. Since then, Russia has been trying to rebuild their econom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nancial crisis in 199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A main oil company’s CEO was arrested in 200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ak banking system and poor economic growth also contribute to the falling econom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conomy uns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5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6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70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3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money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Solutions/ Adap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Went to gold standard to solve financial cri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pen more small and medium sized companies in Sib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Kept social priorities and pensions increased while inflation decreased during economic cri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rying to keep inflation low by restricting prices, anti-monopoly adjustments and other tac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4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5" dur="indefinite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indefinite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8" dur="indefinite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9" dur="indefinite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2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3" dur="indefinite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indefinite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6" dur="indefinite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7" dur="indefinite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0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0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5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176311502716118.jpg"/>
          <p:cNvPicPr/>
          <p:nvPr/>
        </p:nvPicPr>
        <p:blipFill>
          <a:blip r:embed="rId1"/>
          <a:stretch/>
        </p:blipFill>
        <p:spPr>
          <a:xfrm>
            <a:off x="4724280" y="3657600"/>
            <a:ext cx="4419720" cy="3200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Hematite2.jpg"/>
          <p:cNvPicPr/>
          <p:nvPr/>
        </p:nvPicPr>
        <p:blipFill>
          <a:blip r:embed="rId2"/>
          <a:stretch/>
        </p:blipFill>
        <p:spPr>
          <a:xfrm>
            <a:off x="0" y="3657600"/>
            <a:ext cx="4724280" cy="3200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gold_12.jpg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3657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oil_well_1290026178.jpg"/>
          <p:cNvPicPr/>
          <p:nvPr/>
        </p:nvPicPr>
        <p:blipFill>
          <a:blip r:embed="rId4"/>
          <a:stretch/>
        </p:blipFill>
        <p:spPr>
          <a:xfrm>
            <a:off x="0" y="0"/>
            <a:ext cx="4724280" cy="36576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Russia has many natural resources such 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 Extra Bold"/>
              </a:rPr>
              <a:t>gold, nickel, coal, petroleum, copper, fish, bauxite, iron ore, lead, tin, and zin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Ruehl"/>
                <a:ea typeface="FrankRuehl"/>
              </a:rPr>
              <a:t>In 2009, Russia was the world’s leading exporter of g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…forest contains a lot of timber for the Russians to use for building and other important us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31" dur="2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250" autoRev="1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6" dur="250" autoRev="1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" dur="250" autoRev="1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1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Kaliningrad-Russ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Port C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angSong"/>
                <a:ea typeface="FangSong"/>
              </a:rPr>
              <a:t>Russia has many port cities such as Kaliningrad, St. Petersburg, Murmansk and Vladivosto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aiTi"/>
                <a:ea typeface="KaiTi"/>
              </a:rPr>
              <a:t>These Port Cities are important because they increase the opportunity of trade with other countr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ngsuhChe"/>
                <a:ea typeface="GungsuhChe"/>
              </a:rPr>
              <a:t>Because of these Port Cities, Russian’s are allowed to get the goods they need.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9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23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37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40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663248248_8236c31a9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French Script MT"/>
              </a:rPr>
              <a:t>Port C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523880"/>
            <a:ext cx="40402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aiandra GD"/>
              </a:rPr>
              <a:t>Kaliningrad:</a:t>
            </a: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 a Baltic port in north-weste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aiandra GD"/>
              </a:rPr>
              <a:t>No connection to other Russian territor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aiandra GD"/>
              </a:rPr>
              <a:t>Major manufacturing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aiandra GD"/>
              </a:rPr>
              <a:t>Ice-fre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S Gothic"/>
                <a:ea typeface="MS Gothic"/>
              </a:rPr>
              <a:t>Vladivostok: </a:t>
            </a:r>
            <a:r>
              <a:rPr b="0" lang="en-US" sz="2400" spc="-1" strike="noStrike">
                <a:solidFill>
                  <a:srgbClr val="ffffff"/>
                </a:solidFill>
                <a:latin typeface="MS Gothic"/>
                <a:ea typeface="MS Gothic"/>
              </a:rPr>
              <a:t>South-eastern port in Russ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S Gothic"/>
                <a:ea typeface="MS Gothic"/>
              </a:rPr>
              <a:t>Only ice-free port in mainland Russ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S Gothic"/>
                <a:ea typeface="MS Gothic"/>
              </a:rPr>
              <a:t>Biggest ocean port on Pacific coast in Russ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S Gothic"/>
                <a:ea typeface="MS Gothic"/>
              </a:rPr>
              <a:t>Major industries are fishing and engineer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4720" y="1447560"/>
            <a:ext cx="40417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Murmansk: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on the Kola Peninsul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worlds largest port located behind polar cir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Most northern non-freezing port in Russ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Euphemia"/>
              </a:rPr>
              <a:t>St. Petersburg: </a:t>
            </a:r>
            <a:r>
              <a:rPr b="0" lang="en-US" sz="2400" spc="-1" strike="noStrike">
                <a:solidFill>
                  <a:srgbClr val="ffffff"/>
                </a:solidFill>
                <a:latin typeface="Euphemia"/>
              </a:rPr>
              <a:t>major sea port at the east end of the gulf of Finl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Euphemia"/>
              </a:rPr>
              <a:t>Industries include: shipbuilding, engineering, electronics and chemic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Euphemia"/>
              </a:rPr>
              <a:t>Second main city in Russian fed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1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8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8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8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9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2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5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8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1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4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7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52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55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58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61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64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67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untitled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Felix Titling"/>
              </a:rPr>
              <a:t>Tour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ne of the most important to service sect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uring the financial crisis in 1998, Russian tourism f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ts of cultural sites in Moscow and St. Petersbu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otumChe"/>
                <a:ea typeface="DotumChe"/>
              </a:rPr>
              <a:t>Too much paper work, expensive prices and lack of local marketing limits what tourists can se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4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4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imag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MingLiU-ExtB"/>
                <a:ea typeface="PMingLiU-ExtB"/>
              </a:rPr>
              <a:t>Fast Fast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eelawadee"/>
                <a:ea typeface="Leelawadee"/>
              </a:rPr>
              <a:t>Now is second leading producer of oil after Saudi Arab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Rich in oil, natural gas and timb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Leading producer of energy and military technology and natural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overnment invest in multi-billion program to boost education, healthcare, agriculture and hou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8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4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6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1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5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6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5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1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Freestyle Script"/>
              </a:rPr>
              <a:t>THE END!!!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imagesCA1BOKT7.jpg"/>
          <p:cNvPicPr/>
          <p:nvPr/>
        </p:nvPicPr>
        <p:blipFill>
          <a:blip r:embed="rId1"/>
          <a:stretch/>
        </p:blipFill>
        <p:spPr>
          <a:xfrm>
            <a:off x="609480" y="1981080"/>
            <a:ext cx="2819520" cy="2625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C:\Users\Kim\AppData\Local\Microsoft\Windows\Temporary Internet Files\Content.IE5\H3L26ZRR\MC900432487[1].wmf"/>
          <p:cNvPicPr/>
          <p:nvPr/>
        </p:nvPicPr>
        <p:blipFill>
          <a:blip r:embed="rId2"/>
          <a:stretch/>
        </p:blipFill>
        <p:spPr>
          <a:xfrm>
            <a:off x="6629400" y="1905120"/>
            <a:ext cx="1847880" cy="1984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smiles_419.gif"/>
          <p:cNvPicPr/>
          <p:nvPr/>
        </p:nvPicPr>
        <p:blipFill>
          <a:blip r:embed="rId3"/>
          <a:stretch/>
        </p:blipFill>
        <p:spPr>
          <a:xfrm>
            <a:off x="3505320" y="3505320"/>
            <a:ext cx="2857320" cy="1971720"/>
          </a:xfrm>
          <a:prstGeom prst="rect">
            <a:avLst/>
          </a:prstGeom>
          <a:ln w="0">
            <a:noFill/>
          </a:ln>
        </p:spPr>
      </p:pic>
    </p:spTree>
  </p:cSld>
  <p:transition>
    <p:comb dir="vert"/>
    <p:sndAc>
      <p:stSnd>
        <p:snd r:embed="rId4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22:06:37Z</dcterms:created>
  <dc:creator>Michelle</dc:creator>
  <dc:description/>
  <dc:language>en-US</dc:language>
  <cp:lastModifiedBy>Kim</cp:lastModifiedBy>
  <dcterms:modified xsi:type="dcterms:W3CDTF">2010-12-21T19:16:25Z</dcterms:modified>
  <cp:revision>46</cp:revision>
  <dc:subject/>
  <dc:title>Russia Economy</dc:title>
</cp:coreProperties>
</file>